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974-E1B0-4F38-8C43-A2A9877E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DE8-0F06-4A2C-A0C5-FACC2299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829-0B4B-41B5-A25C-238D33FA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FCD-78E7-424D-8B6F-F131A715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0D9-C0FA-4E18-8BB6-BE45F803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10E-96C1-424A-9C02-EECAE0FB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263-A04D-47A5-9911-0CD7E3D4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DD3-1EF6-412B-A8CA-960EDE66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85A-3416-43F2-8391-8126AC76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03E-0E5E-4723-9843-5EF9028A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791-16A8-41EA-87AC-B8D8742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578-E34E-4A9C-8333-2D43B8C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E8AD0-63E8-4B37-8488-2806975CA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ant ionic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63520" y="1138320"/>
          <a:ext cx="8612280" cy="4298760"/>
        </p:xfrm>
        <a:graphic>
          <a:graphicData uri="http://schemas.openxmlformats.org/drawingml/2006/table">
            <a:tbl>
              <a:tblPr/>
              <a:tblGrid>
                <a:gridCol w="1181160"/>
                <a:gridCol w="2263680"/>
                <a:gridCol w="1722600"/>
                <a:gridCol w="1839960"/>
                <a:gridCol w="160488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at room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onductivity as so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onductivity as molten or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bility in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 mel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ol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mel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ol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mel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mel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TextBox 4"/>
          <p:cNvSpPr/>
          <p:nvPr/>
        </p:nvSpPr>
        <p:spPr>
          <a:xfrm>
            <a:off x="457200" y="5591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substance has a giant ionic structure? Explain your answ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do you know about the other the structure of the other three substanc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1:56:25Z</dcterms:created>
  <dc:creator>Nico Van De Casteele</dc:creator>
  <dc:description/>
  <dc:language>en-US</dc:language>
  <cp:lastModifiedBy>Nico Van De Casteele</cp:lastModifiedBy>
  <dcterms:modified xsi:type="dcterms:W3CDTF">2013-10-31T12:11:19Z</dcterms:modified>
  <cp:revision>3</cp:revision>
  <dc:subject/>
  <dc:title>Giant ionic structure</dc:title>
</cp:coreProperties>
</file>